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CDA1-2E43-43AC-863C-C0B4B9478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5754-E302-4D7D-9A9F-B35DC7E7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4E36-19B3-4826-BFC2-EFFA5DE9F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4B10-2FA6-4F62-A4BF-58C0D3E65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4AB0-7980-4F46-B215-C1EA911D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E939-FDE2-4F81-A98E-908604AC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6347-6222-4ABB-9A54-0026A118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DA42-332A-4BD4-8D2E-31FB4826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ACA9-6B65-457F-9B15-0FD10667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0523-B7A1-4325-89F5-83EA0B7A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0EFB-1BDE-48F1-8BE4-8EE35FA1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F8FE-628A-4742-95B8-15A8C701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06D97-BE55-4BF2-A7C3-9DD9DED56B6F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00360" y="1440000"/>
            <a:ext cx="4319640" cy="43066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0" y="1979640"/>
            <a:ext cx="3378240" cy="36241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913120" y="1260360"/>
            <a:ext cx="4287960" cy="51372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60720" y="360360"/>
            <a:ext cx="5580000" cy="6659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19280" y="404640"/>
            <a:ext cx="4530960" cy="6615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00360" y="1260360"/>
            <a:ext cx="4370400" cy="52768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340000" y="336600"/>
            <a:ext cx="5219640" cy="66834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879640" y="720720"/>
            <a:ext cx="4241880" cy="60166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40000" y="1079640"/>
            <a:ext cx="3419640" cy="48592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19280" y="900000"/>
            <a:ext cx="4680000" cy="5580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79640" y="360360"/>
            <a:ext cx="5576760" cy="7020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73520" y="1300320"/>
            <a:ext cx="2706480" cy="48193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22560" y="1000080"/>
            <a:ext cx="4357800" cy="5300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79640" y="179280"/>
            <a:ext cx="6119640" cy="71992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60720" y="539640"/>
            <a:ext cx="3622680" cy="6175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982880" y="179280"/>
            <a:ext cx="5757840" cy="7020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0000" y="360360"/>
            <a:ext cx="6510240" cy="7020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19280" y="360360"/>
            <a:ext cx="4680000" cy="7020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394000" y="179280"/>
            <a:ext cx="4986360" cy="71992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60720" y="179280"/>
            <a:ext cx="4881600" cy="71802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600360" y="1619280"/>
            <a:ext cx="2700360" cy="4024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60720" y="219240"/>
            <a:ext cx="5219640" cy="69800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00360" y="1038240"/>
            <a:ext cx="3240000" cy="54417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19280" y="361800"/>
            <a:ext cx="4775400" cy="66582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79640" y="360360"/>
            <a:ext cx="5661000" cy="68389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422440" y="361800"/>
            <a:ext cx="4957920" cy="66582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19280" y="0"/>
            <a:ext cx="468000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19280" y="0"/>
            <a:ext cx="485928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619280" y="360360"/>
            <a:ext cx="6440400" cy="69962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79640" y="539640"/>
            <a:ext cx="5759280" cy="6480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2840" y="1154160"/>
            <a:ext cx="3106800" cy="53244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1640" y="1260360"/>
            <a:ext cx="3979800" cy="49910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503520" y="2340000"/>
            <a:ext cx="3157560" cy="33274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973240" y="1260360"/>
            <a:ext cx="3506760" cy="50659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54200" y="720720"/>
            <a:ext cx="5005440" cy="6119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06600" y="1079640"/>
            <a:ext cx="5332320" cy="5580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5T17:07:24Z</dcterms:created>
  <dc:creator>Miloš Broulík</dc:creator>
  <dc:description/>
  <dc:language>en-US</dc:language>
  <cp:lastModifiedBy>Miloš Broulík</cp:lastModifiedBy>
  <dcterms:modified xsi:type="dcterms:W3CDTF">2010-12-25T18:18:16Z</dcterms:modified>
  <cp:revision>2</cp:revision>
  <dc:subject/>
  <dc:title/>
</cp:coreProperties>
</file>