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D97-ABA5-4C12-902D-340FEA793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A621-151F-421E-B800-DA140A66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836C-A086-44E1-B105-3C640E46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239C-F201-441F-85FA-E968FB64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9203-EDED-4EFE-A940-5F11091C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6923-6F47-4A7F-8B51-3CEA341BC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791-5750-41A4-AF40-BF823CB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1A70-A87D-4841-98FA-FBEFEEB1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C5E-5773-4A7F-94C7-F13D687F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53C-5871-4DF8-914D-D23CCAE2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8A0E-7E6C-47F2-9C0E-45712FA4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A8E-0C47-41B7-9AFC-3126A11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A5F3F-E0F3-48E6-B151-515B4E40D442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00360" y="1440000"/>
            <a:ext cx="4319640" cy="4306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0" y="1979640"/>
            <a:ext cx="3378240" cy="3624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13120" y="1260360"/>
            <a:ext cx="4287960" cy="5137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0720" y="360360"/>
            <a:ext cx="5580000" cy="66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19280" y="404640"/>
            <a:ext cx="4530960" cy="6615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00360" y="1260360"/>
            <a:ext cx="4370400" cy="5276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40000" y="336600"/>
            <a:ext cx="5219640" cy="6683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879640" y="720720"/>
            <a:ext cx="4241880" cy="6016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40000" y="1079640"/>
            <a:ext cx="3419640" cy="485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19280" y="900000"/>
            <a:ext cx="468000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57676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73520" y="1300320"/>
            <a:ext cx="2706480" cy="481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22560" y="1000080"/>
            <a:ext cx="4357800" cy="5300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79640" y="179280"/>
            <a:ext cx="6119640" cy="719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060720" y="539640"/>
            <a:ext cx="3622680" cy="6175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82880" y="179280"/>
            <a:ext cx="575784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0000" y="360360"/>
            <a:ext cx="651024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19280" y="360360"/>
            <a:ext cx="4680000" cy="702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94000" y="179280"/>
            <a:ext cx="4986360" cy="719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60720" y="179280"/>
            <a:ext cx="4881600" cy="7180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600360" y="1619280"/>
            <a:ext cx="2700360" cy="4024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60720" y="219240"/>
            <a:ext cx="5219640" cy="6980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600360" y="1038240"/>
            <a:ext cx="3240000" cy="5441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9280" y="361800"/>
            <a:ext cx="4775400" cy="665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661000" cy="683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22440" y="361800"/>
            <a:ext cx="4957920" cy="66582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519280" y="0"/>
            <a:ext cx="468000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19280" y="0"/>
            <a:ext cx="4859280" cy="755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360360"/>
            <a:ext cx="6440400" cy="69962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79640" y="539640"/>
            <a:ext cx="5759280" cy="6480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2840" y="1154160"/>
            <a:ext cx="3106800" cy="5324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1640" y="1260360"/>
            <a:ext cx="3979800" cy="499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503520" y="2340000"/>
            <a:ext cx="3157560" cy="3327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973240" y="1260360"/>
            <a:ext cx="3506760" cy="506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54200" y="720720"/>
            <a:ext cx="5005440" cy="6119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06600" y="1079640"/>
            <a:ext cx="5332320" cy="5580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5T17:07:24Z</dcterms:created>
  <dc:creator>Miloš Broulík</dc:creator>
  <dc:description/>
  <dc:language>en-US</dc:language>
  <cp:lastModifiedBy>Miloš Broulík</cp:lastModifiedBy>
  <dcterms:modified xsi:type="dcterms:W3CDTF">2010-12-25T18:18:16Z</dcterms:modified>
  <cp:revision>2</cp:revision>
  <dc:subject/>
  <dc:title/>
</cp:coreProperties>
</file>